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BF3-17F4-4224-8282-8BFE33B6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40B-9AA7-478C-BAA1-489F6D8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85F-6F0F-457B-92E6-E5F2E5A3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23B-BF7F-49FE-98D2-AB5C0B85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6FF-3D2D-4E79-9C52-CCFD1ED1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FF0-BB5F-41F7-BC65-753CBF6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5D1-CC43-49FE-834C-12EBD933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40F-427B-49F1-9F28-D97162D5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246-E28E-4F00-84A9-1F37B27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C33-8D7F-4290-A3B4-ED0811C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27D-E3A9-46FB-8B87-CB51083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99B-DD03-4A54-BA17-DAE64A5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93A-117B-4311-9489-92D26790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of the Citizen Cornel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What does “role of the citizen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influence does a citizen have in how their country is r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countries, people have no say; others have lots of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What are the 3 government types that describe role of the citiz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garc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What is the role of the citizen in an autocracy? 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role/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utocracies the leader has unlimited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is usually restrictive—fear and military involved o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Saddam Hus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Kietzman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What is the role of the citizen in an oligarchy?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95320" y="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ttle or no role/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oligarchies, a few people rule (usually rich/powerful) and share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fe is usually restri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ghting in govt over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nge leadership often because of power strug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fe example: NONE! No one likes to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ool example:  Kietzman &amp; Nolasco in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What is the role of the citizen in a democracy?  Examp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role in influencing the government including, lobbying, voting, writing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ic governments get their power from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is usually better than in the others but not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ample: US, Canada, Ind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example:  Student Forum members vote and influence school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39:30Z</dcterms:created>
  <dc:creator>Cobb County School District</dc:creator>
  <dc:description/>
  <dc:language>en-US</dc:language>
  <cp:lastModifiedBy>Cobb County School District</cp:lastModifiedBy>
  <dcterms:modified xsi:type="dcterms:W3CDTF">2009-10-06T14:16:22Z</dcterms:modified>
  <cp:revision>10</cp:revision>
  <dc:subject/>
  <dc:title>Role of the Citizen Cornell Notes</dc:title>
</cp:coreProperties>
</file>